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8167D-B7CD-4661-8FF7-FE70E4FBD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76DA3-FDA2-41F9-AAAB-9FCE37ABD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E1DA6-0575-49E9-9E81-648ADA057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63534-4F8D-408D-8C8D-434DC0411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2666D-4874-4332-A69E-BED0EF77F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C363E-B61D-410D-9F12-9EA931C70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68691-0967-44D4-8DDF-CFA6C73E0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1FA3F-99B0-4D89-8401-C0C056FEB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F813C-AEC5-43FC-9CDC-53C62F947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CCF6C-F422-42D2-AF5A-755D7A621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E8259-AF0C-4D08-B6C5-3C10FE37B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A2B4B-FD16-49E6-83A4-1D953BC5D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9285B-3FFA-4CC7-978C-B38594AF7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7A21A-5214-4E29-8CB8-64666621D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8A69F-60F4-49F1-AA9E-3E9D82B24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C73AB6-3FA3-49EE-9824-01824ECFC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34043-0EBA-4C9D-8EB7-A368DCCDF7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C69F3-1F65-446B-8EEA-1F3CC0F49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F0A88-7A0B-43A0-BC3C-C0485BC0D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514A2-10A0-4E82-8F72-1E865E016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65618-E1B7-4AC1-B971-3B2E0B999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DFFC3-C253-4932-BA4E-BA18ACED2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A77AE-7545-4256-A422-65047D771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3B128-5EC7-4F00-99BB-EA7E7B62B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CD80-AE8F-4FC5-850D-8D87F1936E30}"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F787-76B5-4509-822C-B1DE1839D963}"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tudentportal.vbschools.com/students/104737/Current%20Student%20Workspace/Letter.doc"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tudentportal.vbschools.com/students/104737/Current%20Student%20Workspace/My%20ocean.ppt" TargetMode="External"/><Relationship Id="rId2" Type="http://schemas.openxmlformats.org/officeDocument/2006/relationships/hyperlink" Target="http://studentportal.vbschools.com/students/104737/Current%20Student%20Workspace/the%20horse%20poem.doc" TargetMode="External"/><Relationship Id="rId3" Type="http://schemas.openxmlformats.org/officeDocument/2006/relationships/hyperlink" Target="http://studentportal.vbschools.com/students/104737/Current%20Student%20Workspace/Dreams%20sweet.ppt" TargetMode="External"/><Relationship Id="rId4" Type="http://schemas.openxmlformats.org/officeDocument/2006/relationships/hyperlink" Target="http://studentportal.vbschools.com/students/104737/Current%20Student%20Workspace/Only%20to%20fly.ppt"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reatively writing..</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Brandi Cervantes</a:t>
            </a:r>
            <a:endParaRPr b="0" lang="en-US" sz="3200" spc="-1" strike="noStrike">
              <a:solidFill>
                <a:srgbClr val="ffcc00"/>
              </a:solidFill>
              <a:latin typeface="Arial Black"/>
            </a:endParaRPr>
          </a:p>
        </p:txBody>
      </p:sp>
      <p:pic>
        <p:nvPicPr>
          <p:cNvPr id="352"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904760"/>
            <a:ext cx="7772400" cy="199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reations of imagery</a:t>
            </a:r>
            <a:endParaRPr b="0" lang="en-US" sz="4400" spc="-1" strike="noStrike">
              <a:solidFill>
                <a:srgbClr val="ffffff"/>
              </a:solidFill>
              <a:latin typeface="Arial Black"/>
            </a:endParaRPr>
          </a:p>
        </p:txBody>
      </p:sp>
      <p:pic>
        <p:nvPicPr>
          <p:cNvPr id="354" name="" descr=""/>
          <p:cNvPicPr/>
          <p:nvPr/>
        </p:nvPicPr>
        <p:blipFill>
          <a:blip r:embed="rId1"/>
          <a:stretch/>
        </p:blipFill>
        <p:spPr>
          <a:xfrm>
            <a:off x="5410080" y="3429000"/>
            <a:ext cx="32562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bout me</a:t>
            </a:r>
            <a:endParaRPr b="0" lang="en-US" sz="4400" spc="-1" strike="noStrike">
              <a:solidFill>
                <a:srgbClr val="ffffff"/>
              </a:solidFill>
              <a:latin typeface="Arial Black"/>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1"/>
              </a:rPr>
              <a:t>Letter.doc</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nnotated table of contents</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Reflective letter- Why I choose this class</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hlinkClick r:id="rId1"/>
              </a:rPr>
              <a:t>My ocean.ppt</a:t>
            </a:r>
            <a:r>
              <a:rPr b="0" lang="en-US" sz="1600" spc="-1" strike="noStrike">
                <a:solidFill>
                  <a:srgbClr val="ffcc00"/>
                </a:solidFill>
                <a:latin typeface="Arial Black"/>
              </a:rPr>
              <a:t> – This is my one of my favorite poems, talks about the ocean. Attempted for the form of the villanelle.</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hlinkClick r:id="rId2"/>
              </a:rPr>
              <a:t>the%20horse%20poem.doc</a:t>
            </a:r>
            <a:r>
              <a:rPr b="0" lang="en-US" sz="1600" spc="-1" strike="noStrike">
                <a:solidFill>
                  <a:srgbClr val="ffcc00"/>
                </a:solidFill>
                <a:latin typeface="Arial Black"/>
              </a:rPr>
              <a:t>– This is a poem about, if I was an animal I would be a horse. </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Laundry%20time.doc– A personal favorite, has my favorite rhyming scheme.</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Reflection.doc– I was shown a picture and had to write about the imagery around, I wrote the feelings of the person.</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hlinkClick r:id="rId3"/>
              </a:rPr>
              <a:t>Dreams%20sweet.ppt</a:t>
            </a:r>
            <a:r>
              <a:rPr b="0" lang="en-US" sz="1600" spc="-1" strike="noStrike">
                <a:solidFill>
                  <a:srgbClr val="ffcc00"/>
                </a:solidFill>
                <a:latin typeface="Arial Black"/>
              </a:rPr>
              <a:t>- a poem where we had to write with words that are backwards. This was really fun</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hlinkClick r:id="rId4"/>
              </a:rPr>
              <a:t>Only%20to%20fly.ppt</a:t>
            </a:r>
            <a:r>
              <a:rPr b="0" lang="en-US" sz="1600" spc="-1" strike="noStrike">
                <a:solidFill>
                  <a:srgbClr val="ffcc00"/>
                </a:solidFill>
                <a:latin typeface="Arial Black"/>
              </a:rPr>
              <a:t> – my Favorite poem of all, makes a lot of sense to me and relates to real life</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Fictional piece- This was fun to write, very exciting. Learned how to use a variety of words to make sense.</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True piece- About my sister, came from my heart.</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One- act play drama.doc – I wrote about a carnival, was fun. I know how to write a play now</a:t>
            </a: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ictional</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One day on a forest-like beach, I was riding my bicycle and saw something extrodinary. An eagle was hurt from a child feeding it poisened bread. I put the eagle in the basket on my bike and tried to find help to save my new friend. The ride was very dangerous though. There was strong wind and clams all over that made the ride very bumpy. I found a harbor with a ship in it and I carried my friend to the bridge and walked onto the ship. The ship had a lot of sails and women that it confused me to where i was at. Then i saw a man who was brushing his white horses that had 2 little bells around his neck. I went up and asked him if he could help my friend, some child feed it poisonous bread and now he is sick. Before I finished my sentence, the man handed me a violet and told me to give the eagle the flower at night towards the North star and he will be healed. I carried my eagle back to my bike and pedeled home as fast I could. When i got there it was already dark enough so that i could give him the flower. I entered my house and walked through until i got to the backyard. A strange cat tried to attack my friend so i lit a fire and i scared the cat away. I positined the eagle towards the star and gave him the flower and all of a sudden he felt better. He got up and soard in the air but then hit a tree because it was night, then all the pines fell down and killed him. </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on-fictional</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When i was little, my mom took me to the park at Mount Trashmore. It was a warm sunny day where kids are feeding the Geese, people are running up and down the mountain. There used to be a big slide that was kind of curvy and it was extremely fun to slide down from. My mom took me to the slide and I started sliding down this curvy slide laughing really loud. When i got towards the end of the slide, I saw a trail of pebbles that led to the lake. It wasnt really a straight trail, it was spread out spartigly. When i got to the lake I saw a bunch of tiny seashells and pebbles in the water. I reached out and grabbed a handful then ran back to show my mom. The shells were so tiny and cute and the pebbles were vibrant with color. Then my mom told me I could keep them so I put them in my little pocket, then i held her hand as we walked back to the car. </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end!</a:t>
            </a:r>
            <a:endParaRPr b="0" lang="en-US" sz="4400" spc="-1" strike="noStrike">
              <a:solidFill>
                <a:srgbClr val="ffffff"/>
              </a:solidFill>
              <a:latin typeface="Arial Black"/>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65" name="" descr=""/>
          <p:cNvPicPr/>
          <p:nvPr/>
        </p:nvPicPr>
        <p:blipFill>
          <a:blip r:embed="rId1"/>
          <a:stretch/>
        </p:blipFill>
        <p:spPr>
          <a:xfrm>
            <a:off x="6781680" y="3733920"/>
            <a:ext cx="1413000" cy="1793880"/>
          </a:xfrm>
          <a:prstGeom prst="rect">
            <a:avLst/>
          </a:prstGeom>
          <a:ln w="0">
            <a:noFill/>
          </a:ln>
        </p:spPr>
      </p:pic>
      <p:pic>
        <p:nvPicPr>
          <p:cNvPr id="366" name="" descr=""/>
          <p:cNvPicPr/>
          <p:nvPr/>
        </p:nvPicPr>
        <p:blipFill>
          <a:blip r:embed="rId2"/>
          <a:stretch/>
        </p:blipFill>
        <p:spPr>
          <a:xfrm>
            <a:off x="685800" y="2057400"/>
            <a:ext cx="1847880" cy="1984320"/>
          </a:xfrm>
          <a:prstGeom prst="rect">
            <a:avLst/>
          </a:prstGeom>
          <a:ln w="0">
            <a:noFill/>
          </a:ln>
        </p:spPr>
      </p:pic>
      <p:pic>
        <p:nvPicPr>
          <p:cNvPr id="367" name="" descr=""/>
          <p:cNvPicPr/>
          <p:nvPr/>
        </p:nvPicPr>
        <p:blipFill>
          <a:blip r:embed="rId3"/>
          <a:stretch/>
        </p:blipFill>
        <p:spPr>
          <a:xfrm>
            <a:off x="2590920" y="4191120"/>
            <a:ext cx="263052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12:21:02Z</dcterms:created>
  <dc:creator>Virginia Beach Public Schools</dc:creator>
  <dc:description/>
  <dc:language>en-US</dc:language>
  <cp:lastModifiedBy>Virginia Beach City Public Schools</cp:lastModifiedBy>
  <dcterms:modified xsi:type="dcterms:W3CDTF">2008-06-09T12:44:07Z</dcterms:modified>
  <cp:revision>8</cp:revision>
  <dc:subject/>
  <dc:title>Creatively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ass">
    <vt:lpwstr>c. writing</vt:lpwstr>
  </property>
  <property fmtid="{D5CDD505-2E9C-101B-9397-08002B2CF9AE}" pid="3" name="Due Date">
    <vt:lpwstr/>
  </property>
  <property fmtid="{D5CDD505-2E9C-101B-9397-08002B2CF9AE}" pid="4" name="Teacher">
    <vt:lpwstr>plummer</vt:lpwstr>
  </property>
</Properties>
</file>